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DD3-717E-479B-8FEF-BE0228ED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297-9F6E-4A52-A409-93D352E2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ADB-32A5-4AD8-A1BF-5E78E392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62D-7928-40C2-AAEA-4EF72A70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8FB-E12F-4724-B234-F1C9A383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B56-EEAC-46E5-846D-9F39CC4B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5D9-7DF1-4D99-A6CE-86AA1830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2F0-FD24-4BC7-AC03-81497E0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AAC-7902-4C7A-B606-17EA97BF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5F9-BA7F-4FD5-A85B-4A8D1CA3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FE3-EE22-48D7-BD1C-4830331B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3F0-FA01-4F28-9F45-6605CB16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77B1-2560-457C-9CD5-2AAD52D4840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akav se naboj krije u vodiči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inica za naboj je kulon (C), a za vrijeme je sekunda (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inica struj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mper (znak A)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inice struje su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iliamper, mA = 0,001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ikroamper, μA = 0,000 001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7"/>
          <a:stretch/>
        </p:blipFill>
        <p:spPr>
          <a:xfrm>
            <a:off x="1835280" y="3284640"/>
            <a:ext cx="2943000" cy="876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8"/>
          <a:stretch/>
        </p:blipFill>
        <p:spPr>
          <a:xfrm>
            <a:off x="5580000" y="3284640"/>
            <a:ext cx="1000080" cy="866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Što čini struju u tekućinama i metalnim vodiči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133720"/>
            <a:ext cx="5338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struja kroz otopinu modre gal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ve promjene opažate na elektrodam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retpostavljate li zašto su se čestice bakra nataložile na negativnoj elektrod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7"/>
          <a:stretch/>
        </p:blipFill>
        <p:spPr>
          <a:xfrm>
            <a:off x="6084720" y="2852640"/>
            <a:ext cx="167328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tomi bakra s pozitivne bakrene pločice otapaju se i prelaze u otopinu. Ioni bakra polako se gibaju od anode prema katodi i čine električnu struju. Ioni bakra u blizini katode primaju elektrone od nje i na njoj se taloži bak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smjereno gibanje pozitivnih iona na negativnu elektrodu, a negativnih iona na pozitivnu elektrodu čini struju u tekućin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mo odlaze elektroni predani anod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oni koje otpušta bakar prolaze vanjskim strujnim krugom kroz spojne žice do kato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metalnim vodičima električnu struju čini usmjereno gibanje elektrona od minus pola električnog ka plus polu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Kako objasniti gibanje elektrona u metalim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Metal je građen tako da atomi otpuštaju dio elektrona. Nastali pozitivni ioni čine čvrstu kristalnu rešetku, a negativni elektroni su </a:t>
            </a:r>
            <a:r>
              <a:rPr b="1" lang="vi-VN" sz="3000" spc="-1" strike="noStrike">
                <a:solidFill>
                  <a:srgbClr val="000000"/>
                </a:solidFill>
                <a:latin typeface="Calibri"/>
              </a:rPr>
              <a:t>pokretljivi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pa se u toj rešetci </a:t>
            </a:r>
            <a:r>
              <a:rPr b="1" lang="vi-VN" sz="3000" spc="-1" strike="noStrike">
                <a:solidFill>
                  <a:srgbClr val="000000"/>
                </a:solidFill>
                <a:latin typeface="Calibri"/>
              </a:rPr>
              <a:t>slobodno gibaju.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Nazivamo ih </a:t>
            </a:r>
            <a:r>
              <a:rPr b="1" lang="vi-VN" sz="3000" spc="-1" strike="noStrike">
                <a:solidFill>
                  <a:srgbClr val="000000"/>
                </a:solidFill>
                <a:latin typeface="Calibri"/>
              </a:rPr>
              <a:t>slobodni elektro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da metalnim vodičem zatvorimo strujni krug, baterija električnom silom djeluje na slobodne elektrone tako da ih – polom odbija i usmjerava prema + polu koji ih privlač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čini struju u plinov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posebnim okolnostima plin se ionizira i tada postaje jako vodljiv što je popraćeno iskrom ili munj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ruju u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linovim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čini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usmjereno gibanje io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a ako je plin ioniziran, 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lektro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07880" y="2163600"/>
            <a:ext cx="364968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057560" y="2031840"/>
            <a:ext cx="506880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astrosurf.com/luxorion/Decors/logo-lightning.jpg"/>
          <p:cNvPicPr/>
          <p:nvPr/>
        </p:nvPicPr>
        <p:blipFill>
          <a:blip r:embed="rId1"/>
          <a:stretch/>
        </p:blipFill>
        <p:spPr>
          <a:xfrm>
            <a:off x="755640" y="549360"/>
            <a:ext cx="76802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Električnu struju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u vodičima čini usmjereno gibanje elektrona i io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Struja I će biti to veća što u određenom vremenu t kroz presjek vodiča prođe više čestica ukupnog naboja 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3059280" y="4292640"/>
            <a:ext cx="2819160" cy="942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9428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6:09:23Z</dcterms:created>
  <dc:creator>Zdenka</dc:creator>
  <dc:description/>
  <dc:language>en-US</dc:language>
  <cp:lastModifiedBy>Zdenko</cp:lastModifiedBy>
  <dcterms:modified xsi:type="dcterms:W3CDTF">2014-07-18T09:22:57Z</dcterms:modified>
  <cp:revision>11</cp:revision>
  <dc:subject/>
  <dc:title>Električna struja kroz krute, tekuće i plinovite tvari</dc:title>
</cp:coreProperties>
</file>